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ACA-7652-45D1-AA56-DF9EA1D6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84C-5259-459B-96B1-DEA8218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517B5-9FC2-4ADF-89DD-C99CAA9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CBD04-F802-4C3D-A070-70B5F1E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A0874-0616-4A14-85CE-4D5A9A0B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FF75B-1673-4A6D-BF73-4E3C805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EED75-CF2F-46F9-B7B1-57B6D468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DCB35-6A8B-4DF6-B614-05E855E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F878-96F0-4FFA-9927-4BACE46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28B2A-53DC-403D-88BD-4A4D2F2C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34C25-FC16-44EB-B059-9D1A5471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F901-8D31-47C3-B53B-46FE8FC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D7C-1FE4-4DD9-83AF-2888EF2D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6C47-305C-4124-B392-DCEFAD3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6112-A3F5-4885-BB11-EFD2FB5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23D6C-EFF3-425E-89CC-0F32F944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B4C9-6F8D-4F40-877F-407E5CC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492DF-9AD4-4E32-8BC7-5D148975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2D6FA-C2B7-46A0-8820-D4D72AC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C42B-577C-41CC-9553-E14A46C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7BAB2-AF01-4D5B-9829-B62AD85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A7743-B289-4C44-A1E0-580C9E83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E0F17-8B03-4A29-A65F-FE5BAA73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C4B-2AD7-41AA-94FD-75883E18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D0D30-7EED-4568-99C5-1CBBBF04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57A3-BF32-4EF6-BE1F-47882D3C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C220E-49F9-4F10-ABA0-891D7BE7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EF1C9-E471-4CCE-AC90-6A5EBE0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3CFF8-648B-4B89-B4F9-C5C6DF0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01C9-A50D-4F28-9ADF-A86EB5C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FB614-E603-470B-A04B-F46D117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3C1F-BD17-46E9-8704-1D3569D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6D8D6-631B-48C3-8C30-203AFB8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1EB7-2C55-415D-BEB5-7351958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BE93-B477-4FAB-8E70-62A81042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C2E97-9879-45E8-9EDA-57D5B56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AB7D-04A5-4266-944B-923FB5A2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9E3D-D18F-47EB-AC68-21F5A6C9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30C9-35C1-41FF-8864-D20862F3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D6329-B373-45A1-8FE0-AD5E6E36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128B-7AC4-4F3D-96D2-EE01C7C2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8063E-A32C-4E61-87E8-FC95D7BB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31866-7444-4299-ABA4-C53E90C1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DD51C-ABC7-4C47-AFA3-0A07317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13087-593F-47F7-BE16-8DD6512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1385-BF01-4B1E-BAF5-3325995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34575-19AC-4774-A8AC-97C60FC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84E8F-190F-43AF-B711-E59229A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F5878-0912-4C80-A415-8886E5C5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BC136-FE95-4D86-95AE-D6E029FD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626E0-435B-460A-909C-57040155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EC2D-0427-44F0-AD05-3C69F65A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9D196-E041-43D4-AC1E-84D95B7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5704E-8C55-48AD-9E71-B6031CA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802E0-026A-4C17-AF77-B1645850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0C131-3F02-4A18-8DBF-2F491EFE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3861-216A-4A56-A1C3-990988C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29C45-DC26-4639-B2A3-89FA488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B529A-6F5B-4ACD-B951-CE62CE6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F5D4E-B8BF-45FF-8A9D-F78E22D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E28F8-859B-4392-86AB-A4A2C1F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6AD81-CF67-41C0-BDEF-62C0836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4F845-1731-49EA-A207-F13B59EA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0AE1D-AB81-4DB5-8BE9-A8BC6255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32D5F-91F7-47DB-AA75-470CFE76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2A896-F41B-4BDF-A6F8-60A867F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4084-068B-429E-96B3-BEA80CA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3CA6-CF46-47F4-84EA-B7483B10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1D2BB-FC34-43AA-A722-102E29A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5193B-81CE-46DB-A332-4635D3AE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AC0CD-B931-46DC-9A1D-53C2B28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C2CE3-39F1-4344-8F52-581D701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5D4A5-874E-46BC-9A10-966ED98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D1017-2BB0-4F2E-B089-21AA0EC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1A54E-8406-4FE9-96E7-2EBA184F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194D4-E513-46B9-A6AE-4CD9A35D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3A904-E222-41A5-AA25-8484D0B9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96029-23C8-4EE7-A391-C026F736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86AB-40E2-4553-A674-A8B96301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4FB77-D78F-4DD4-B3E8-FDF6AF6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48C1B-5A62-47B8-B755-7773723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1C5FE-283C-419E-96F1-8BA4E4F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A358A-3C90-4B62-9EF9-AAE24DE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D9786-BB13-4CB8-8073-7051D49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590F3-01E1-4865-ACEC-D81AC4D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6257E-310D-4B72-8D31-DBC5EAD7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F5B37-E015-4838-9A67-24BB949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2CE93-021A-4388-8E93-B5F9F598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7FBAF-061A-408D-9D7C-F87267FC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E03C-2210-4E8D-A3D9-95CE0441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C9E2A-06C0-4F29-860F-7EAC9E84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89F34-F597-4EB5-AF52-8F205789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9A2A4-04F8-4CE6-A202-0684A173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AC75E-5075-4437-A0BE-F0902550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E71E9-8125-4446-A4C3-D8A6035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4DB88-5427-42DB-BC92-87FE9262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FCF1B-9B35-446F-AA7E-541D386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28570-109F-459B-B90C-057DD5B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7D85E-0C9E-43DC-9DB4-8A7FCD7C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EAA1F-7DFA-48F8-A668-08B85BF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BB8-38F9-481A-B461-0FDEF25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48DB2-2D51-4D94-B089-666D53B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BA333-8256-4CCF-9883-931EA94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90E62-2984-4A56-93FB-7133D3CD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53FCE-A5D2-4BC7-B79C-10436E96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A121C-0C2C-44E7-B7D7-998CAFFE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A98F8-6C3A-4095-BFFC-5FAC3C5E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116E4-2B99-4A8C-9368-F269258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DF35A-6B10-433F-98C6-87166DB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C266F-DD1E-44C7-A6E3-D76126F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5868E-8DE0-4428-A325-1A240E4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313-78EF-4AA8-95C0-486B894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1C61-67B7-458A-BF60-47BC437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0100E-9FD0-4747-9A57-92754FDF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76C38-E90D-4732-B172-9269C81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3EB35-7AD3-46CE-A4B5-B0B8C78F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B50A3-A988-4149-BE89-FAA35FA9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3A374-C8F3-454D-B6ED-AB6333C9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2FA7D-6C4E-4F70-9441-3890E45B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32100-8B4C-434C-9A33-C0CC28F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BA4D8-0C19-4B4A-B316-152DF15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B8D22-D1FC-4BA2-B566-AA70C96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088BF-9DEB-478C-A088-A431B84B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D5C-5F0F-4517-B2E1-CB7FECF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A8E4D-9356-4F08-A710-2C7C975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D94B9-09B2-45E1-B5DC-79BB855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92F8E-3018-4521-8A1E-88C1B4E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1A55B-8927-44C5-A88B-60634C0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B1D29-C38B-4A3D-99F9-8EF460E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12326-8E2A-4216-AE42-CADCD4F9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9C4D8-7136-4BE0-9C03-6BC91EB4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AF1B7-3523-4DF5-BBCC-EB43D56D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A5946-73F1-4E80-B6DB-9AA5FFD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4CABC-08F3-407E-AAED-F0BF0E1D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D26-DCEC-4FD7-9C6A-13A7D9CA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F9A09-E404-484D-8B98-FA67900D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4CB8A9-8AAF-4A3D-9920-26455B97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2B8A1-2130-4643-88A2-FD4A13A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12D76-B844-4F68-91C8-9550C2A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E512B-D58B-4E80-8359-3294254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05B7E-BBD5-40B0-95A8-1991019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57C45-49D2-4EF8-BBEC-FFBC8269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56D28-F673-404D-B3AF-374F2BB9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A1D74-66E9-4E56-BD4D-BB32FB61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B5F20-4517-4F22-B64D-B16F773C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5391-EBFE-481E-A69C-38612B31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C1DC8-3C95-4BA3-A14E-1F5F6E53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DA90C-83FC-47DC-AD40-D48F202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301B9-8B81-4A0B-8D50-304FC3A1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B2C70-9AD5-4CBD-AFC4-01B75BF4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E59CE-3525-435C-A8A1-7D421478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22275-DE10-423A-8553-0C4005C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46F93-6D28-4BFE-97BF-3294798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6E68F-49F6-48D0-B6D3-622E917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BB736-E9CC-4BE3-8A15-FB688C61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DA662-9E83-441B-867B-B32BB1A5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0CC-B0C7-4A23-B5A6-BAB345C5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C65FC-C12D-4553-8B66-9F0F4EDE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0A510-8C31-4EEC-922F-DD500EA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92F01-3B0E-437C-A0AA-277BA409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E140E-96FD-4F31-9EED-D159D250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0ED82-5718-4D07-BF54-90C3FBE3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A7793-ADAA-476C-8936-84FFECA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C72F3-21DD-413D-A61B-FE1F3623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E7005-AC37-4F57-B194-B3B4B81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F0CD0-CEB2-4E14-8B66-BE28B3A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5DD87-606A-44A1-B281-72F664A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7073-02F1-4FE1-BC07-54FB19AD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E1175-978D-453C-B7ED-6CC5949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CE46E-49B2-4361-A2F9-C3D3D8B7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EF813-56D1-4741-A2BE-439A5E78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4F04-E5BA-43AE-98CB-4646D35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9A50-02F6-48BE-876C-750A45B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CBBF-9754-4318-905F-8C5557A3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18A8-902F-4D63-8664-2F7AE7C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DD0-86EA-48C2-BADA-E332C17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7E3A-548F-44A9-8284-52913CE6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A0B6-D6F1-4A06-B52F-0D14665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E9E4-59CE-4FC1-B37A-795C328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50BE-79D5-4AE4-BDEC-9BB6D89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7DFC-6BB5-4A28-AF67-89B0D165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B29F-8E82-4C3B-A826-BF45A15A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C833-E1E6-4976-A3FF-398A73DE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84C9-32FF-4378-837C-8E1586E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5DB8-04C4-4A02-B886-DA4F77F0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919C-23B5-4F84-A6E5-3C445E2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87C-1FE1-4626-B43E-0ACA8C12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9077-2D49-4EE2-8983-5A8258D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EDEE-51F6-41F0-B203-7B675509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800C-48D4-4956-B04B-323EC92D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DF68-4B8C-4AFE-AB1A-18B63FE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E4C5-826F-4235-BD30-3FA7C63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FF33-3EB1-4715-906B-CC098D4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A172-9DB6-4123-B1F2-27254DA4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213F-CC8F-4828-A1D1-2173EDE9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B5CE-2028-41FD-9038-603E3084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6164-3EFB-4F74-8F55-447A3695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1F6-5865-4D9E-AB99-9819136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0994-0250-4E56-977C-43A0A04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4484-AA2E-468A-A05C-305EA3EA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59F3B-E4DD-4A79-9EB9-2649F92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44E1-8685-4479-A283-1410097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A1C5-BC13-4314-81A6-A46A1A3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2560-9C2D-4FC5-BA93-7BB05477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B6AD-CE96-4CE8-BCA5-D24E760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9F2E-1194-42D9-BC69-43945FB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5BDD-68DC-405F-A9A5-C0A7CA2E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D142-5C69-44EA-A3C3-F26B53C2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2DA-8476-4292-9633-7ECFFCDA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766A-63ED-4BF4-99FC-96FAA7A8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6AF1-E208-4AD8-B36B-C0C7A2B4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5784-D0B5-4E0A-BCEF-89C2E77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0873-79A3-49F4-8393-436C57E5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E0B3-B93A-4F6E-8265-1A41D7F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11AB-5225-4D18-BAEC-281D363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8D46-B704-4CAC-B8F2-F4A9F74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40E7-6991-45A2-8C5A-E1F6709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9659-7AC7-4636-9266-DC261DD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4C81-DE03-4781-9447-99D22507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511-0339-48F2-BC56-40E6C52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A9FAF-21E2-4351-A4C0-693D0FA7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8AB27-AD7A-4E8D-AC33-E16A1F7C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3414-CED1-4D71-8A87-F83DB502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03038-A239-461F-B0CD-28DC0206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D636-DDE5-4163-90CF-AA33F87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D637-42FA-4E0F-AD55-4F7F5B4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2724-9B3C-4B0E-94E8-A8FCA964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88E96-C717-4055-8FF6-1656BFD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798F-C622-4DE4-884E-8F2E9F9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B7AAC-E1A4-49F2-8991-01534C0B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046-90A9-41EE-AA6D-D6915B3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F069-7977-441B-8CA6-48FAF66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73E4-2CB9-48D5-849F-680D1C6A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0FE2-5D1F-475E-A5E6-B2FC611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2AED-7B8F-4AFD-B76B-6B82CBF1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2E78-BDEA-41DE-99C4-82C2DC10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943C4-378D-450F-A480-90E9B181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91563-1B33-4256-B762-EA81A073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C393-D269-4031-B504-AC5010A3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9C5C-ED93-4A5E-AFF5-C13CE4F0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85EA-876B-427B-BE2F-91D2173A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C6A-A0EF-4CE1-BE17-26A6859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19EE4-9C97-4FDE-868F-F44DE19A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5819-025D-4509-A387-9F70D65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EBB1-456F-4864-9732-0ADC302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5794B-0194-4FA7-919E-19AE269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4697F-C386-4F27-83B7-2A9598E1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060A-0839-461C-9166-0D9B7338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64078-83E4-428D-BB38-633A84B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BFCB-81DB-4520-91F1-2CA223E9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B6473-735C-45BA-B3F2-7F5CF7C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1037F-A4F1-4DA8-821B-E06C89F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431-F934-4918-BC8B-DE7CF67B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428-C270-4C67-A522-541437EF9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F4A5-E373-4854-BC53-3A328F2B2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A8F-F60C-42DF-8DBC-C3D7C3E51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753-2DD5-4673-B64B-6C4E616F2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D98-6786-4109-A6F3-ADF2B0BE55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A99-4AF6-4DDD-AD9C-A6AB37AE4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B00-3375-4B59-80E5-6E364E5A91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3CE-9C2B-4132-AC73-7C7405279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18D-384C-4152-9F78-B360CAA62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C5DB-66D1-4024-97A5-0D036BA18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A71-23D1-4789-B882-250493CC2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EE0-6E14-4C75-A7A9-537D6D56EF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C8B3-BDED-4CD3-8779-4F09954A0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01C-89DE-4F22-9434-400619B07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DF5-A546-4BE1-A776-EA59232A4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AF5-1A6C-4BB4-A22D-9E5295716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5B73-8F8E-4737-97D7-B5036407B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1ECE-F0E7-4F73-AAE3-1D0C92C2E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8BF-BF84-4237-9107-9AF4EC19FC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79A-063A-4DA9-8AF7-9F974DF2F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25D2-CB48-49FC-8850-4BEC9A366B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747-D78F-4A6D-9542-28CD0F1987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65B1-77EB-4D52-A0B9-D80B46B63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CBAD-0D01-4BBB-8B8B-33B63D797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25D-4D33-4846-91C1-8F7A1A06C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569-24EA-4B3E-A6BD-604CDAB83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FF7-0F5A-4606-902B-1CCFAA7D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103D-F76E-484E-8A97-FF207D5B5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C96-4C70-45F9-AD71-729A5370DF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633-3E8E-42BB-885C-6298560F8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8033-9599-47D5-A8EC-CF77E7C49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4A0-6DFF-4E99-A512-4F98B8232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A9A2-C833-4AFA-8E9C-88FF10450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CD92-6B69-4FB8-9D0A-92CC8A3CC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3A61-90A8-4FF7-9855-229E860D8D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7E1-1DC4-4DEE-8D7E-7488F17B2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B17-6D14-4A89-8A6D-8F71E2B377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77A-37A5-4500-AD5F-68428CB2A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B905-B674-47BC-B00C-715BF079F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47800" y="3052800"/>
            <a:ext cx="5648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0" y="1138320"/>
            <a:ext cx="9144000" cy="4600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42960" y="1433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11280" y="176688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63480" y="2127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63480" y="2441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63480" y="2774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900000" y="486252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43216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06728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565164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7256520" y="4869000"/>
            <a:ext cx="28872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185760" y="1062000"/>
            <a:ext cx="8772480" cy="5010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755640" y="2414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755640" y="3351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765000" y="4292640"/>
            <a:ext cx="289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0" y="2000160"/>
            <a:ext cx="9153360" cy="2857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611280" y="270360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5"/>
          <a:stretch/>
        </p:blipFill>
        <p:spPr>
          <a:xfrm>
            <a:off x="611280" y="335124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6"/>
          <a:stretch/>
        </p:blipFill>
        <p:spPr>
          <a:xfrm>
            <a:off x="622440" y="366552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5:4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